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09DA-BCCE-4BDF-B536-8DDC22124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0E43-1722-4D93-AB18-04DD0BE8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BEDA-DA90-45FF-8F0A-6298D81B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E5B3-DC55-4893-936A-ED770B43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D63C-8B60-4AB5-9AB6-B25D6C26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C57F-B355-48BE-A67B-647B1A18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521B-A9B5-47A4-9F34-3F9066DE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6807-44BC-456E-B721-065EA0B6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8EF3-EA7A-4816-9A47-A2668856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C4C6-F7F6-4126-A9F4-53FF924B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0961-DDD6-46C4-A7C6-3C43310F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394-648A-454F-A70A-F00A6C92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BDEF-8E43-4C57-A409-45F43A8CF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476280"/>
            <a:ext cx="3598920" cy="3598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4221000"/>
            <a:ext cx="2340000" cy="2340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404640"/>
            <a:ext cx="4105080" cy="355140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4221000"/>
            <a:ext cx="1224000" cy="1224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48360" y="4221000"/>
            <a:ext cx="1224000" cy="10591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4149720"/>
            <a:ext cx="2665440" cy="230508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1159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３：シンメトリ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620640"/>
            <a:ext cx="8642160" cy="597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159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３：アシンメトリー（バラン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620640"/>
            <a:ext cx="8642160" cy="597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79280" y="1159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４：体育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83800" y="7650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「体育祭」で表現したいイメージを書き出してみ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148428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67760" y="580536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書き出したイメージをもとに作ってみ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必要に応じて○△□を変形させてもよ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1159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４：体育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620640"/>
            <a:ext cx="8642160" cy="597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1159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４：音楽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80640" y="7650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「音楽祭」で表現したいイメージを書き出してみ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148428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67760" y="580536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書き出したイメージをもとに作ってみ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必要に応じて○△□を変形させてもよ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9280" y="1159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４：音楽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620640"/>
            <a:ext cx="8642160" cy="597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4005360"/>
            <a:ext cx="2448000" cy="2448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16360" y="3573360"/>
            <a:ext cx="1296720" cy="129708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89000"/>
            <a:ext cx="3671640" cy="36716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52120" y="620640"/>
            <a:ext cx="1183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大中小の●▲■をコピーして使お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色は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濃い灰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％灰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薄い灰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白・黒・灰色以外の好きな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３種類にし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00720" y="1484280"/>
            <a:ext cx="1224000" cy="36036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23040" y="2620800"/>
            <a:ext cx="1224000" cy="360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2520" y="3452760"/>
            <a:ext cx="122400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03960" y="2081160"/>
            <a:ext cx="1224000" cy="360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1159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１：安定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620640"/>
            <a:ext cx="8642160" cy="6048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1159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１：不安定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620640"/>
            <a:ext cx="8642160" cy="597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9280" y="1159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１：一定の方向に向かう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620640"/>
            <a:ext cx="8642160" cy="597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9280" y="1159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１：躍動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620640"/>
            <a:ext cx="8642160" cy="597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1159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２：対比「大・小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620640"/>
            <a:ext cx="8642160" cy="597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9280" y="1159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２：対比「静・動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620640"/>
            <a:ext cx="8642160" cy="597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11592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２：対比「単純・複雑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620640"/>
            <a:ext cx="8642160" cy="597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03:54:44Z</dcterms:created>
  <dc:creator>toyama</dc:creator>
  <dc:description/>
  <dc:language>en-US</dc:language>
  <cp:lastModifiedBy>toyama</cp:lastModifiedBy>
  <dcterms:modified xsi:type="dcterms:W3CDTF">2011-01-07T04:49:31Z</dcterms:modified>
  <cp:revision>7</cp:revision>
  <dc:subject/>
  <dc:title>スライド 1</dc:title>
</cp:coreProperties>
</file>