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79A6-6DCF-46FB-B881-ABA791464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EA5-1A38-4BE1-BA5D-7181F65F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051-C630-4F3F-A201-AAD420E7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439-7801-4447-9A8E-06A9AC37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E9C-AEC6-4F81-9A1B-1245A8D9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A0A-4382-436B-AAFA-A89347FC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AC3-6552-4E61-9944-7908082D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F2EF-0FA2-4D5A-A29A-C5ADEC14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4B0-0C17-490E-BB2F-D189EBC7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DFF-C4EF-4A5C-83DB-F5A06E1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343-4BD0-4D86-9954-85079E26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2C2-5608-4596-AAFF-45053294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C47E-DA2F-4361-A985-58F8CA0C4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次のイメー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781360"/>
            <a:ext cx="1800000" cy="1800000"/>
          </a:xfrm>
          <a:prstGeom prst="rect">
            <a:avLst/>
          </a:prstGeom>
          <a:solidFill>
            <a:srgbClr val="33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25720" y="2838600"/>
            <a:ext cx="389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四角が３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のイメージになるように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411280" y="2781360"/>
            <a:ext cx="1800360" cy="1800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781360"/>
            <a:ext cx="2698920" cy="9000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70172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１　自然・５月のイメ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3681360"/>
            <a:ext cx="2698920" cy="9000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11280" y="2781360"/>
            <a:ext cx="1800360" cy="1800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11640" y="2781360"/>
            <a:ext cx="2698920" cy="90000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1640" y="170172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課題２　軽やかな，躍動的な，陽気なイメ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3681360"/>
            <a:ext cx="2698920" cy="900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それぞれの配色は，一つの例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0:24:57Z</dcterms:created>
  <dc:creator>toyama</dc:creator>
  <dc:description/>
  <dc:language>en-US</dc:language>
  <cp:lastModifiedBy>toyama</cp:lastModifiedBy>
  <dcterms:modified xsi:type="dcterms:W3CDTF">2011-01-06T09:05:09Z</dcterms:modified>
  <cp:revision>7</cp:revision>
  <dc:subject/>
  <dc:title>スライド 1</dc:title>
</cp:coreProperties>
</file>