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C79-1130-4537-BFFB-FACE04B6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D07-6356-4F26-90E4-D5D09CC1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5BC5-F55F-41F2-A420-498F6956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258-F4C9-4DE6-8259-F9429B1B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C2F-418A-4725-95C7-F8E65A8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3737-D593-44F9-B089-74286B1F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2005-F886-4D88-A60F-34917572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DF0-E89F-4085-95E3-EA493E0E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577-069D-4CF2-8A5B-70C0A38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A0C-EF81-4E38-8E59-DE04835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A10-E255-4CA6-BA02-0BE1B33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491D-7768-457C-931A-442D4F3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4D10-A001-4A2A-9283-0B47A1551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1403280"/>
            <a:ext cx="6172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題に沿って線をひきましょ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さ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度にしましょう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で太さを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変更でき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844280" y="3564000"/>
            <a:ext cx="3529080" cy="46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1560" y="8669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　自由　⑨曲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1000" y="8669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水平・垂直　①１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1000" y="8669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水平・垂直　②２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800" y="8669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水平・垂直　③複数の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000" y="866916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　水平・垂直線と斜線　④矩形に対角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6640" y="866916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　斜線のみ　⑤１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74440" y="86691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　斜線のみ　⑥複数の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1560" y="8669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　自由　①直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1560" y="8669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　自由　⑧斜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19:30Z</dcterms:created>
  <dc:creator>toyama</dc:creator>
  <dc:description/>
  <dc:language>en-US</dc:language>
  <cp:lastModifiedBy>toyama</cp:lastModifiedBy>
  <dcterms:modified xsi:type="dcterms:W3CDTF">2010-12-10T12:08:50Z</dcterms:modified>
  <cp:revision>10</cp:revision>
  <dc:subject/>
  <dc:title>スライド 1</dc:title>
</cp:coreProperties>
</file>