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BE5-67BB-49DB-BCE7-9F4EC27D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3813-9A47-44B5-A2A2-4243B32E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385-59EB-4E86-8CA1-F1529D09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5BF-101B-44EA-A374-ED92B8DB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67D-84DD-4E43-8D99-4070D097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6092-647B-4AD6-BCBE-078EFCBC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095-A97F-4F8C-97A0-1698F9E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0CA-B3BA-4F9D-95F1-3B8947A7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F0ED-6340-4B1C-9718-4DF31F7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522-0405-4FAB-8D16-BB2EAE3B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7BE8-307F-4CD7-B264-60D9D79D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3B3-CC4F-4F29-8D11-40C364BA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D37F-91FB-444E-9C62-725CD60CA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の内容をあらわすの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ふさわしい書体を選ぼう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駐輪禁止」（正門前に出す看板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42920" y="1628640"/>
            <a:ext cx="7058160" cy="2449800"/>
          </a:xfrm>
          <a:prstGeom prst="roundRect">
            <a:avLst>
              <a:gd name="adj" fmla="val 5384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HGSｺﾞｼｯｸE"/>
                <a:ea typeface="HGSｺﾞｼｯｸE"/>
              </a:rPr>
              <a:t>駐輪禁止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7920" y="6381720"/>
            <a:ext cx="161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ゴシック系の力強い書体が適し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次の内容をあらわすのに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ふさわしい書体を選ぼう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「京都旅行」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和をテーマにした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パンフレットの見出し用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0160" y="189000"/>
            <a:ext cx="4861080" cy="648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129560" y="176040"/>
            <a:ext cx="2861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HG行書体"/>
              </a:rPr>
              <a:t>京都旅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45520" y="6165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GP行書体"/>
                <a:ea typeface="HGP行書体"/>
              </a:rPr>
              <a:t>NICHIBUN</a:t>
            </a:r>
            <a:r>
              <a:rPr b="0" lang="zh-CN" sz="1800" spc="-1" strike="noStrike">
                <a:solidFill>
                  <a:srgbClr val="ffffff"/>
                </a:solidFill>
                <a:latin typeface="HGP行書体"/>
                <a:ea typeface="HGP行書体"/>
              </a:rPr>
              <a:t>ツア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72840" y="645336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行書体，明朝体などが適し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11:17:13Z</dcterms:created>
  <dc:creator>toyama</dc:creator>
  <dc:description/>
  <dc:language>en-US</dc:language>
  <cp:lastModifiedBy>toyama</cp:lastModifiedBy>
  <dcterms:modified xsi:type="dcterms:W3CDTF">2010-12-19T07:05:52Z</dcterms:modified>
  <cp:revision>3</cp:revision>
  <dc:subject/>
  <dc:title>次の内容をあらわすのに ふさわしい書体を選ぼう。  「駐輪禁止」（正門前に出す看板用）</dc:title>
</cp:coreProperties>
</file>