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67B-4BD7-4A54-A266-14EEBAB9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3964-9A79-4DC0-8598-5AF781ED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8A56-5C45-466A-BE46-D3890C23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B9BD-B592-4B04-B2EC-655DB104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074-30E1-4773-ADC9-D874CD3E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522-6FB1-44CD-B119-ECDDAA8A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C2B-9CC5-422C-8808-F1C74F27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A386-62B5-4D17-86F1-402943A9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F04-89AA-454B-9836-BC56647C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232-9B84-4961-879D-8E836936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140F-0F68-478D-ABAC-CFBA5F7D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A2E-C0A1-4A72-9AC4-12D6523D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6B1-0BE1-4307-AC5C-763BD1134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無彩色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無彩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3333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96969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一色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一色相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8f8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00006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9b95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645bd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d1cef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3327c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類似色相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類似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対照色で配色しよ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2781360"/>
            <a:ext cx="2160360" cy="21603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26080" y="2852640"/>
            <a:ext cx="376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のような四角が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個あるの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オートシェイプの書式設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塗りつぶしの色を選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対照色で配色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0920" y="189000"/>
            <a:ext cx="2160360" cy="216036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" y="189000"/>
            <a:ext cx="8637480" cy="6478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2349360"/>
            <a:ext cx="2160360" cy="216072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11280" y="189000"/>
            <a:ext cx="2160720" cy="21603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2349360"/>
            <a:ext cx="2160720" cy="216072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4508640"/>
            <a:ext cx="2160720" cy="21603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9000"/>
            <a:ext cx="2160720" cy="216036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189000"/>
            <a:ext cx="2160360" cy="21603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49360"/>
            <a:ext cx="2160720" cy="216072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32720" y="2349360"/>
            <a:ext cx="2160360" cy="216072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508640"/>
            <a:ext cx="2160720" cy="216036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4508640"/>
            <a:ext cx="2160360" cy="2160360"/>
          </a:xfrm>
          <a:prstGeom prst="rect">
            <a:avLst/>
          </a:prstGeom>
          <a:solidFill>
            <a:srgbClr val="33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4508640"/>
            <a:ext cx="2160360" cy="2160360"/>
          </a:xfrm>
          <a:prstGeom prst="rect">
            <a:avLst/>
          </a:prstGeom>
          <a:solidFill>
            <a:srgbClr val="ff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それぞれの配色は，一つの例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7:21:36Z</dcterms:created>
  <dc:creator>toyama</dc:creator>
  <dc:description/>
  <dc:language>en-US</dc:language>
  <cp:lastModifiedBy>toyama</cp:lastModifiedBy>
  <dcterms:modified xsi:type="dcterms:W3CDTF">2011-01-06T09:10:24Z</dcterms:modified>
  <cp:revision>9</cp:revision>
  <dc:subject/>
  <dc:title>スライド 1</dc:title>
</cp:coreProperties>
</file>