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1692-E2C8-4C7C-86D6-7DF6DA59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2935-3965-4ED3-9C7B-ECD1C750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3FB8-80E4-4135-B9B6-6B4DBD2E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F358-517E-41E0-B8A4-3B4DC455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787D-277A-4F43-9D5B-4BE14DF5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D753-C823-41BF-AE2F-3F201597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EE83-2CE9-46EA-919F-B8FD7DA9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A66D-9775-4482-919C-92BF039E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1021-16F0-4BBB-9B38-CA8DCC6B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787C-BB5D-4AE0-8527-2843D676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DA4C-AA45-4114-8B76-A91C630D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7C42-32C6-40D8-9F49-5641A0CA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81A7-49BA-4733-8A10-9E16FA49A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1403280"/>
            <a:ext cx="6172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課題に沿って線をひきましょう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太さ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p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程度にしましょう。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オートシェイプの書式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で太さを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変更でき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1844280" y="3564000"/>
            <a:ext cx="3529080" cy="460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68280" y="228600"/>
            <a:ext cx="6120000" cy="8277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91560" y="866916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４　自由　⑨曲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4640" y="4738680"/>
            <a:ext cx="6048720" cy="3720960"/>
          </a:xfrm>
          <a:custGeom>
            <a:avLst/>
            <a:gdLst/>
            <a:ahLst/>
            <a:rect l="l" t="t" r="r" b="b"/>
            <a:pathLst>
              <a:path w="3810" h="2344">
                <a:moveTo>
                  <a:pt x="0" y="2344"/>
                </a:moveTo>
                <a:cubicBezTo>
                  <a:pt x="499" y="1520"/>
                  <a:pt x="998" y="696"/>
                  <a:pt x="1633" y="348"/>
                </a:cubicBezTo>
                <a:cubicBezTo>
                  <a:pt x="2268" y="0"/>
                  <a:pt x="3039" y="128"/>
                  <a:pt x="3810" y="257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4640" y="1763640"/>
            <a:ext cx="4861080" cy="6696000"/>
          </a:xfrm>
          <a:custGeom>
            <a:avLst/>
            <a:gdLst/>
            <a:ahLst/>
            <a:rect l="l" t="t" r="r" b="b"/>
            <a:pathLst>
              <a:path w="3062" h="4218">
                <a:moveTo>
                  <a:pt x="0" y="0"/>
                </a:moveTo>
                <a:cubicBezTo>
                  <a:pt x="759" y="230"/>
                  <a:pt x="1519" y="461"/>
                  <a:pt x="1814" y="907"/>
                </a:cubicBezTo>
                <a:cubicBezTo>
                  <a:pt x="2109" y="1353"/>
                  <a:pt x="1595" y="2260"/>
                  <a:pt x="1769" y="2676"/>
                </a:cubicBezTo>
                <a:cubicBezTo>
                  <a:pt x="1943" y="3092"/>
                  <a:pt x="2654" y="3145"/>
                  <a:pt x="2858" y="3402"/>
                </a:cubicBezTo>
                <a:cubicBezTo>
                  <a:pt x="3062" y="3659"/>
                  <a:pt x="3028" y="3938"/>
                  <a:pt x="2994" y="421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41840" y="250920"/>
            <a:ext cx="2711520" cy="4897440"/>
          </a:xfrm>
          <a:custGeom>
            <a:avLst/>
            <a:gdLst/>
            <a:ahLst/>
            <a:rect l="l" t="t" r="r" b="b"/>
            <a:pathLst>
              <a:path w="1708" h="3085">
                <a:moveTo>
                  <a:pt x="166" y="0"/>
                </a:moveTo>
                <a:cubicBezTo>
                  <a:pt x="83" y="764"/>
                  <a:pt x="0" y="1528"/>
                  <a:pt x="257" y="2042"/>
                </a:cubicBezTo>
                <a:cubicBezTo>
                  <a:pt x="514" y="2556"/>
                  <a:pt x="1111" y="2820"/>
                  <a:pt x="1708" y="3085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これらはすべて作例で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8280" y="228600"/>
            <a:ext cx="6120000" cy="8277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1000" y="8669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１　水平・垂直　①１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8280" y="190800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68280" y="228600"/>
            <a:ext cx="6120000" cy="8277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1000" y="8669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１　水平・垂直　②２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8280" y="190800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250920"/>
            <a:ext cx="0" cy="828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68280" y="228600"/>
            <a:ext cx="6120000" cy="8277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48800" y="866916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１　水平・垂直　③複数の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8280" y="169236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00280" y="179280"/>
            <a:ext cx="0" cy="8282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8280" y="709308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3360" y="4543560"/>
            <a:ext cx="6120000" cy="28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179280"/>
            <a:ext cx="0" cy="8282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8280" y="228600"/>
            <a:ext cx="6120000" cy="8277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90000" y="8669160"/>
            <a:ext cx="32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２　水平・垂直線と斜線　④矩形に対角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8280" y="190800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04640" y="1908000"/>
            <a:ext cx="6048720" cy="6551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33360" y="250920"/>
            <a:ext cx="6120000" cy="165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68280" y="228600"/>
            <a:ext cx="6120000" cy="8277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6640" y="8669160"/>
            <a:ext cx="18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３　斜線のみ　⑤１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8280" y="2411280"/>
            <a:ext cx="6120000" cy="432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68280" y="228600"/>
            <a:ext cx="6120000" cy="8277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74440" y="866916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３　斜線のみ　⑥複数の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8280" y="1908000"/>
            <a:ext cx="6085080" cy="525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860640" y="1547640"/>
            <a:ext cx="2592720" cy="338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49720" y="250920"/>
            <a:ext cx="934920" cy="3097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68280" y="228600"/>
            <a:ext cx="6120000" cy="8277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1560" y="866916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４　自由　①直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3360" y="90000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84280" y="250920"/>
            <a:ext cx="0" cy="828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8280" y="6804000"/>
            <a:ext cx="6120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84280" y="2411280"/>
            <a:ext cx="500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89720" y="250920"/>
            <a:ext cx="0" cy="216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84280" y="8101080"/>
            <a:ext cx="4969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50080" y="5651640"/>
            <a:ext cx="503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950080" y="5610240"/>
            <a:ext cx="2880" cy="2922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68280" y="228600"/>
            <a:ext cx="6120000" cy="8277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1560" y="8669160"/>
            <a:ext cx="15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４　自由　⑧斜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8280" y="2411280"/>
            <a:ext cx="6120000" cy="432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565360" y="250920"/>
            <a:ext cx="1511280" cy="1512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781000" y="5940360"/>
            <a:ext cx="2592360" cy="2519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8280" y="4140360"/>
            <a:ext cx="6120000" cy="432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8280" y="250920"/>
            <a:ext cx="6120000" cy="432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052280" y="3995640"/>
            <a:ext cx="4537080" cy="4464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04280" y="250920"/>
            <a:ext cx="5234040" cy="504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1:19:30Z</dcterms:created>
  <dc:creator>toyama</dc:creator>
  <dc:description/>
  <dc:language>en-US</dc:language>
  <cp:lastModifiedBy>toyama</cp:lastModifiedBy>
  <dcterms:modified xsi:type="dcterms:W3CDTF">2011-01-06T08:54:08Z</dcterms:modified>
  <cp:revision>10</cp:revision>
  <dc:subject/>
  <dc:title>スライド 1</dc:title>
</cp:coreProperties>
</file>