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BE84D-B12F-4CE5-8B99-AE7522EB4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91F57-F350-4768-B1BF-7A219070C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47B26-5890-4CD6-8673-E67EEB2D3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F4928-C8E0-4288-9E9E-6606A50C1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1DF72-AFA7-4CC2-B602-52FF8EB32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650CD-E84B-410A-BFF8-ED3EFCC82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58E65-C4B7-4436-8845-3A0F131EB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54547-0394-4450-830A-0F5ABC3E6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9AF90-0D50-4EE0-A284-9C241C311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A0473-C0C0-45BF-AF93-1DD554FB6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83B0B-61D7-49E4-B180-9C1DDF7C6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330B3-96BD-403C-9D66-38565240C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8EAD5-F41A-4312-AAAF-F3954113DE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5564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次のイメージで配色しよ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2781360"/>
            <a:ext cx="1800000" cy="1800000"/>
          </a:xfrm>
          <a:prstGeom prst="rect">
            <a:avLst/>
          </a:prstGeom>
          <a:solidFill>
            <a:srgbClr val="33cc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825720" y="2838600"/>
            <a:ext cx="3893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四角が３個あるので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オートシェイプの書式設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]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の塗りつぶしの色を選び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課題のイメージになるように配色しよ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411280" y="2781360"/>
            <a:ext cx="1800360" cy="180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211640" y="2781360"/>
            <a:ext cx="2698920" cy="90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971640" y="170172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課題１　自然・５月のイメー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211640" y="3681360"/>
            <a:ext cx="2698920" cy="90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411280" y="2781360"/>
            <a:ext cx="1800360" cy="180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211640" y="2781360"/>
            <a:ext cx="2698920" cy="90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71640" y="1701720"/>
            <a:ext cx="45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課題２　軽やかな，躍動的な，陽気なイメー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11640" y="3681360"/>
            <a:ext cx="2698920" cy="90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0T10:24:57Z</dcterms:created>
  <dc:creator>toyama</dc:creator>
  <dc:description/>
  <dc:language>en-US</dc:language>
  <cp:lastModifiedBy>toyama</cp:lastModifiedBy>
  <dcterms:modified xsi:type="dcterms:W3CDTF">2011-01-06T09:05:57Z</dcterms:modified>
  <cp:revision>9</cp:revision>
  <dc:subject/>
  <dc:title>スライド 1</dc:title>
</cp:coreProperties>
</file>