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CF9-1F76-4910-8020-CAF73AD5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37A6-8336-4C40-A70E-97A25654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369-5093-4401-8EA3-EA5AE0EF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4C0-BEEC-44F9-8EFA-ED8E9649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3A7-4398-465B-B47D-B80E2AB1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879-0791-47A8-A3F2-4D69D9C3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830-D84F-49FB-96C6-B2E86D34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49E-A603-47D1-B20E-799EC95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8CA-3EDF-4B4E-9880-0F9BC97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BDF-135E-4CA9-A171-754DA019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EEB-64F9-426A-9144-27D85379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84F9-7227-4AED-8BDA-3BFCD3AC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4C59-6482-4958-B391-378168A94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476280"/>
            <a:ext cx="3598920" cy="3598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4221000"/>
            <a:ext cx="2340000" cy="2340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404640"/>
            <a:ext cx="4105080" cy="35514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422100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8360" y="4221000"/>
            <a:ext cx="1224000" cy="10591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149720"/>
            <a:ext cx="2665440" cy="2305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：シンメトリ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4005360"/>
            <a:ext cx="2340000" cy="234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3640" y="2781360"/>
            <a:ext cx="2448000" cy="24480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765000"/>
            <a:ext cx="2665440" cy="230508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115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３：アシンメトリー（バラン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2782800"/>
            <a:ext cx="3598920" cy="3598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1413000"/>
            <a:ext cx="1224000" cy="122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94360" y="1379520"/>
            <a:ext cx="1297080" cy="1297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体育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83800" y="76500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「体育祭」で表現したいイメージを書き出し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148428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走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接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挑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競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躍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67760" y="5805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書き出したイメージをもとに作っ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要に応じて○△□を変形させてもよ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体育祭　例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9440" y="3557520"/>
            <a:ext cx="2447640" cy="244800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069800">
            <a:off x="2225520" y="2495520"/>
            <a:ext cx="2665440" cy="230508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88160" y="4076640"/>
            <a:ext cx="1296720" cy="12970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9566000">
            <a:off x="4427640" y="364464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4851360"/>
            <a:ext cx="129708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2822600">
            <a:off x="7167240" y="99792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3510200">
            <a:off x="6721200" y="171108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508464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73760" y="4408560"/>
            <a:ext cx="1296720" cy="129708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体育祭　例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30720" y="1000080"/>
            <a:ext cx="1062000" cy="10620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4560" y="1339920"/>
            <a:ext cx="1081080" cy="1081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349200">
            <a:off x="763200" y="1066680"/>
            <a:ext cx="673200" cy="3438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844560"/>
            <a:ext cx="812880" cy="8128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418400">
            <a:off x="1974600" y="3423960"/>
            <a:ext cx="180720" cy="2725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21098400">
            <a:off x="2778120" y="1958760"/>
            <a:ext cx="208080" cy="2468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21087000">
            <a:off x="6194520" y="1002960"/>
            <a:ext cx="917640" cy="2131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91240" y="5230800"/>
            <a:ext cx="2789280" cy="1046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702600">
            <a:off x="3203280" y="5603400"/>
            <a:ext cx="815760" cy="69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436200">
            <a:off x="3990600" y="4647960"/>
            <a:ext cx="932040" cy="80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3452760"/>
            <a:ext cx="884160" cy="75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015800">
            <a:off x="2692440" y="4867200"/>
            <a:ext cx="982800" cy="881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94400" y="2720880"/>
            <a:ext cx="795240" cy="660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音楽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80640" y="765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「音楽祭」で表現したいイメージを書き出し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8428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ピア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リズ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オーケスト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指揮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67760" y="5805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書き出したイメージをもとに作ってみ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必要に応じて○△□を変形させてもよ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 rot="20967000">
            <a:off x="6819840" y="1631520"/>
            <a:ext cx="357120" cy="3730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19760" y="2413080"/>
            <a:ext cx="129672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20967000">
            <a:off x="5303520" y="1928880"/>
            <a:ext cx="515880" cy="3730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0967000">
            <a:off x="3741480" y="2193840"/>
            <a:ext cx="766800" cy="3730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20967000">
            <a:off x="2206800" y="2471400"/>
            <a:ext cx="958680" cy="3730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20967000">
            <a:off x="784080" y="2725200"/>
            <a:ext cx="1033560" cy="37306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４：音楽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16560" y="3465360"/>
            <a:ext cx="129708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02000" y="3759120"/>
            <a:ext cx="129708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58880" y="4535640"/>
            <a:ext cx="1297080" cy="1296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040" y="3448080"/>
            <a:ext cx="129708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51200" y="2781360"/>
            <a:ext cx="1223640" cy="10587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2859200">
            <a:off x="4805280" y="4581000"/>
            <a:ext cx="1224000" cy="10591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781400">
            <a:off x="7075080" y="82044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これらはすべて作例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005360"/>
            <a:ext cx="2448000" cy="2448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3573360"/>
            <a:ext cx="1296720" cy="129708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3671640" cy="367164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252120" y="620640"/>
            <a:ext cx="1183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大中小の●▲■をコピーして使お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色は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濃い灰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％灰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薄い灰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白・黒・灰色以外の好きな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３種類に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1484280"/>
            <a:ext cx="1224000" cy="360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23040" y="2620800"/>
            <a:ext cx="1224000" cy="360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2520" y="3452760"/>
            <a:ext cx="122400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03960" y="2081160"/>
            <a:ext cx="1224000" cy="360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安定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620640"/>
            <a:ext cx="8642160" cy="604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7080" y="3645000"/>
            <a:ext cx="2448000" cy="24480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3440" y="2421000"/>
            <a:ext cx="3598920" cy="3598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3716280"/>
            <a:ext cx="2665440" cy="230508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不安定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0457600">
            <a:off x="826920" y="3465000"/>
            <a:ext cx="2340000" cy="2340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1305000"/>
            <a:ext cx="2448000" cy="2448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0375400">
            <a:off x="2627280" y="1642680"/>
            <a:ext cx="4105440" cy="35514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159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一定の方向に向かう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708280"/>
            <a:ext cx="3672000" cy="3672000"/>
          </a:xfrm>
          <a:prstGeom prst="ellipse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2590800">
            <a:off x="3347640" y="981000"/>
            <a:ext cx="2665440" cy="230508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24360" y="1773360"/>
            <a:ext cx="1297080" cy="1296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33600">
            <a:off x="7235640" y="2492280"/>
            <a:ext cx="122364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：躍動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444400">
            <a:off x="971280" y="2325600"/>
            <a:ext cx="4105080" cy="35514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53600">
            <a:off x="610920" y="3499920"/>
            <a:ext cx="1224000" cy="122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1341360"/>
            <a:ext cx="1296720" cy="12970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779000">
            <a:off x="5940000" y="2349360"/>
            <a:ext cx="2340000" cy="234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899400">
            <a:off x="4284720" y="242064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360200">
            <a:off x="4932000" y="1125000"/>
            <a:ext cx="1224000" cy="105912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：対比「大・小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765000"/>
            <a:ext cx="3598920" cy="3598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522936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5394240"/>
            <a:ext cx="1224000" cy="10591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1159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：対比「静・動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203800">
            <a:off x="2700000" y="1989000"/>
            <a:ext cx="4105080" cy="3551400"/>
          </a:xfrm>
          <a:prstGeom prst="triangle">
            <a:avLst>
              <a:gd name="adj" fmla="val 50000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133720"/>
            <a:ext cx="1297080" cy="1296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3968640"/>
            <a:ext cx="2340000" cy="2340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2637000"/>
            <a:ext cx="1224000" cy="12236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789360"/>
            <a:ext cx="129708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20011200">
            <a:off x="3203640" y="141264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1484280"/>
            <a:ext cx="1224000" cy="10587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rot="19258200">
            <a:off x="2556000" y="371628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592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：対比「単純・複雑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620640"/>
            <a:ext cx="8642160" cy="597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0547000">
            <a:off x="2340000" y="4869000"/>
            <a:ext cx="1224000" cy="1224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3500280"/>
            <a:ext cx="1297080" cy="1297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84720" y="3860640"/>
            <a:ext cx="2340000" cy="2340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258200">
            <a:off x="1476360" y="4797360"/>
            <a:ext cx="1224000" cy="1224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078800">
            <a:off x="1763280" y="3715920"/>
            <a:ext cx="1368360" cy="1184400"/>
          </a:xfrm>
          <a:prstGeom prst="triangle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4365720"/>
            <a:ext cx="1297080" cy="12967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268280"/>
            <a:ext cx="2447640" cy="24480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3:54:44Z</dcterms:created>
  <dc:creator>toyama</dc:creator>
  <dc:description/>
  <dc:language>en-US</dc:language>
  <cp:lastModifiedBy>toyama</cp:lastModifiedBy>
  <dcterms:modified xsi:type="dcterms:W3CDTF">2011-01-07T05:02:49Z</dcterms:modified>
  <cp:revision>18</cp:revision>
  <dc:subject/>
  <dc:title>スライド 1</dc:title>
</cp:coreProperties>
</file>