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9801-193E-4729-A3B4-57049E3D8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C2D0-278F-4F94-B24B-6E192685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91EF-B1E1-4255-BDC2-79F45EE0F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0411-CCC1-4386-8BDD-1AF64ED0C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15CC-1907-4B3E-B28F-5F1F4D8E0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3C18-9F63-4232-92E5-A2D5E01E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DE21-A6E9-4D96-B5A0-EDFA409A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0474-A972-481C-A739-D222D3C2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456C-4C41-4DAD-A7BF-97B873AD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14A4-D901-4334-A5E5-65D6906D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7224-F68A-47F0-A340-385B964B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E49D-25E2-48D5-AB0C-E0C119A8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EBC7-DC29-417D-AE61-7C983E94C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無彩色配色しよ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2781360"/>
            <a:ext cx="2160360" cy="216036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26080" y="2852640"/>
            <a:ext cx="376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左のような四角が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４個あるので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オートシェイプの書式設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塗りつぶしの色を選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無彩色で配色しよ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189000"/>
            <a:ext cx="2160360" cy="21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2349360"/>
            <a:ext cx="2160360" cy="2160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11280" y="2349360"/>
            <a:ext cx="2160720" cy="2160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11280" y="4508640"/>
            <a:ext cx="2160720" cy="21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189000"/>
            <a:ext cx="2160720" cy="21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32720" y="189000"/>
            <a:ext cx="2160360" cy="21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2349360"/>
            <a:ext cx="2160720" cy="2160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32720" y="2349360"/>
            <a:ext cx="2160360" cy="2160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4508640"/>
            <a:ext cx="2160720" cy="21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32720" y="4508640"/>
            <a:ext cx="2160360" cy="21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11280" y="189000"/>
            <a:ext cx="2160720" cy="21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4508640"/>
            <a:ext cx="2160360" cy="21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5600" y="189000"/>
            <a:ext cx="8637480" cy="6478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同一色相で配色しよ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2781360"/>
            <a:ext cx="2160360" cy="216036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26080" y="2852640"/>
            <a:ext cx="376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左のような四角が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４個あるので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オートシェイプの書式設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塗りつぶしの色を選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同一色相で配色しよ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0920" y="189000"/>
            <a:ext cx="2160360" cy="21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2349360"/>
            <a:ext cx="2160360" cy="2160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11280" y="2349360"/>
            <a:ext cx="2160720" cy="2160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11280" y="4508640"/>
            <a:ext cx="2160720" cy="21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189000"/>
            <a:ext cx="2160720" cy="21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720" y="189000"/>
            <a:ext cx="2160360" cy="21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2349360"/>
            <a:ext cx="2160720" cy="2160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32720" y="2349360"/>
            <a:ext cx="2160360" cy="2160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4508640"/>
            <a:ext cx="2160720" cy="21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32720" y="4508640"/>
            <a:ext cx="2160360" cy="21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11280" y="189000"/>
            <a:ext cx="2160720" cy="21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4508640"/>
            <a:ext cx="2160360" cy="21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5600" y="189000"/>
            <a:ext cx="8637480" cy="6478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類似色相で配色しよ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2781360"/>
            <a:ext cx="2160360" cy="216036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26080" y="2852640"/>
            <a:ext cx="376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左のような四角が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４個あるので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オートシェイプの書式設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塗りつぶしの色を選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類似色で配色しよ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0920" y="189000"/>
            <a:ext cx="2160360" cy="21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2349360"/>
            <a:ext cx="2160360" cy="2160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11280" y="2349360"/>
            <a:ext cx="2160720" cy="2160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11280" y="4508640"/>
            <a:ext cx="2160720" cy="21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189000"/>
            <a:ext cx="2160720" cy="21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32720" y="189000"/>
            <a:ext cx="2160360" cy="21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2349360"/>
            <a:ext cx="2160720" cy="2160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32720" y="2349360"/>
            <a:ext cx="2160360" cy="2160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4508640"/>
            <a:ext cx="2160720" cy="21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4508640"/>
            <a:ext cx="2160360" cy="21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11280" y="189000"/>
            <a:ext cx="2160720" cy="21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4508640"/>
            <a:ext cx="2160360" cy="21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5600" y="189000"/>
            <a:ext cx="8637480" cy="6478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対照色で配色しよ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2781360"/>
            <a:ext cx="2160360" cy="216036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26080" y="2852640"/>
            <a:ext cx="376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左のような四角が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４個あるので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オートシェイプの書式設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塗りつぶしの色を選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対照色で配色しよ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50920" y="189000"/>
            <a:ext cx="2160360" cy="21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2349360"/>
            <a:ext cx="2160360" cy="2160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11280" y="2349360"/>
            <a:ext cx="2160720" cy="2160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11280" y="4508640"/>
            <a:ext cx="2160720" cy="21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189000"/>
            <a:ext cx="2160720" cy="21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32720" y="189000"/>
            <a:ext cx="2160360" cy="21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2349360"/>
            <a:ext cx="2160720" cy="2160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32720" y="2349360"/>
            <a:ext cx="2160360" cy="2160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4508640"/>
            <a:ext cx="2160720" cy="21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4508640"/>
            <a:ext cx="2160360" cy="21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11280" y="189000"/>
            <a:ext cx="2160720" cy="21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4508640"/>
            <a:ext cx="2160360" cy="21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00" y="189000"/>
            <a:ext cx="8637480" cy="6478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07:21:36Z</dcterms:created>
  <dc:creator>toyama</dc:creator>
  <dc:description/>
  <dc:language>en-US</dc:language>
  <cp:lastModifiedBy>toyama</cp:lastModifiedBy>
  <dcterms:modified xsi:type="dcterms:W3CDTF">2011-01-06T09:11:57Z</dcterms:modified>
  <cp:revision>8</cp:revision>
  <dc:subject/>
  <dc:title>スライド 1</dc:title>
</cp:coreProperties>
</file>