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179D-B1FA-4120-A9A9-5C558334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1652-6F61-441D-A377-E440BF9F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519B-6F08-46B8-8E1C-FE18D397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48B1-9A9F-4623-87EB-C2292818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395-EC37-4A40-8159-CF8E7698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B492-A747-49B3-A8F1-600D95D4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C053-9D4D-41B1-B91C-E6CE3994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EF6-253D-4168-BDD9-5DDF4CBE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284E-A5B3-405B-A0C0-7DC77B6D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C95-86B4-4E89-8EBC-F690A2AF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9A3C-279B-4FB6-88A4-CE37B970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F20-5EE4-4089-A4F2-3DDA56CB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1D1E-105D-4774-B8DA-FB938DE98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次の内容をあらわすのに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ふさわしい書体を選ぼう。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「駐輪禁止」（正門前に出す看板用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42920" y="1628640"/>
            <a:ext cx="7058160" cy="2449800"/>
          </a:xfrm>
          <a:prstGeom prst="roundRect">
            <a:avLst>
              <a:gd name="adj" fmla="val 5384"/>
            </a:avLst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ＭＳ Ｐゴシック"/>
              </a:rPr>
              <a:t>○○○○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次の内容をあらわすのに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ふさわしい書体を選ぼう。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「京都旅行」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和をテーマにした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パンフレットの見出し用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00160" y="189000"/>
            <a:ext cx="4861080" cy="6480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29560" y="176040"/>
            <a:ext cx="2861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○○○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45520" y="61657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P行書体"/>
                <a:ea typeface="HGP行書体"/>
              </a:rPr>
              <a:t>NICHIBUN</a:t>
            </a:r>
            <a:r>
              <a:rPr b="0" lang="zh-CN" sz="1800" spc="-1" strike="noStrike">
                <a:solidFill>
                  <a:srgbClr val="ffffff"/>
                </a:solidFill>
                <a:latin typeface="HGP行書体"/>
                <a:ea typeface="HGP行書体"/>
              </a:rPr>
              <a:t>ツア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1:17:13Z</dcterms:created>
  <dc:creator>toyama</dc:creator>
  <dc:description/>
  <dc:language>en-US</dc:language>
  <cp:lastModifiedBy>toyama</cp:lastModifiedBy>
  <dcterms:modified xsi:type="dcterms:W3CDTF">2010-12-19T07:03:25Z</dcterms:modified>
  <cp:revision>3</cp:revision>
  <dc:subject/>
  <dc:title>次の内容をあらわすのに ふさわしい書体を選ぼう。  「駐輪禁止」（正門前に出す看板用）</dc:title>
</cp:coreProperties>
</file>