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C94D-BC5D-4671-92AD-7BEAC435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C987-835A-40C9-8143-A79AD3A3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1477-9CDE-4D33-A0DC-5D7B677D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688-2FD1-4079-8F41-B7E67B83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82F-E043-435B-A871-E7F68F17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F339-89AE-48FE-9514-462B7E45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7478-025C-47C1-A13B-C6CA357C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97C1-5335-4758-AB99-6AA70C4D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1AEE-8A42-44A7-922A-10E8B873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79BA-3431-428E-B278-B121F8F9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C63-75E5-4C03-B181-B6E3F3F0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E0B-6A6D-48C2-BA83-09D72335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5E3D-F34A-4BFA-8640-2F18B9C79D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3"/>
          <p:cNvSpPr/>
          <p:nvPr/>
        </p:nvSpPr>
        <p:spPr>
          <a:xfrm>
            <a:off x="295200" y="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３年Ｎ組２番　秋山　冬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角丸四角形 4"/>
          <p:cNvSpPr/>
          <p:nvPr/>
        </p:nvSpPr>
        <p:spPr>
          <a:xfrm>
            <a:off x="328680" y="768240"/>
            <a:ext cx="4548240" cy="11336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学校行事紹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円/楕円 5"/>
          <p:cNvSpPr/>
          <p:nvPr/>
        </p:nvSpPr>
        <p:spPr>
          <a:xfrm>
            <a:off x="5303880" y="768240"/>
            <a:ext cx="3657600" cy="113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明朝E"/>
                <a:ea typeface="HG明朝E"/>
              </a:rPr>
              <a:t>みんなでつくろ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明朝E"/>
                <a:ea typeface="HG明朝E"/>
              </a:rPr>
              <a:t>楽しい学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6"/>
          <p:cNvSpPr/>
          <p:nvPr/>
        </p:nvSpPr>
        <p:spPr>
          <a:xfrm>
            <a:off x="731880" y="2230560"/>
            <a:ext cx="7742160" cy="79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優勝めざして一致団結！　体育大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731880" y="3205080"/>
            <a:ext cx="7742160" cy="79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歌声響け！　合唱コンクー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テキスト ボックス 8"/>
          <p:cNvSpPr/>
          <p:nvPr/>
        </p:nvSpPr>
        <p:spPr>
          <a:xfrm>
            <a:off x="2424240" y="430704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かけがえのない思い出をつくろ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テキスト ボックス 3"/>
          <p:cNvSpPr/>
          <p:nvPr/>
        </p:nvSpPr>
        <p:spPr>
          <a:xfrm>
            <a:off x="3262320" y="4111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生徒会役員募集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円/楕円 4"/>
          <p:cNvSpPr/>
          <p:nvPr/>
        </p:nvSpPr>
        <p:spPr>
          <a:xfrm>
            <a:off x="536400" y="1179360"/>
            <a:ext cx="2535480" cy="1901880"/>
          </a:xfrm>
          <a:prstGeom prst="ellipse">
            <a:avLst/>
          </a:prstGeom>
          <a:noFill/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学校行事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司会進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円/楕円 5"/>
          <p:cNvSpPr/>
          <p:nvPr/>
        </p:nvSpPr>
        <p:spPr>
          <a:xfrm>
            <a:off x="3303720" y="1179360"/>
            <a:ext cx="2536560" cy="1901880"/>
          </a:xfrm>
          <a:prstGeom prst="ellips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新し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イベント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企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円/楕円 6"/>
          <p:cNvSpPr/>
          <p:nvPr/>
        </p:nvSpPr>
        <p:spPr>
          <a:xfrm>
            <a:off x="6072120" y="1179360"/>
            <a:ext cx="2535480" cy="1901880"/>
          </a:xfrm>
          <a:prstGeom prst="ellipse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縁の下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力持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8"/>
          <p:cNvSpPr/>
          <p:nvPr/>
        </p:nvSpPr>
        <p:spPr>
          <a:xfrm>
            <a:off x="2530800" y="330984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000000"/>
                </a:solidFill>
                <a:uFillTx/>
                <a:latin typeface="HG明朝E"/>
                <a:ea typeface="HG明朝E"/>
              </a:rPr>
              <a:t>私たちと学校行事を盛り上げよ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円/楕円 9"/>
          <p:cNvSpPr/>
          <p:nvPr/>
        </p:nvSpPr>
        <p:spPr>
          <a:xfrm>
            <a:off x="669960" y="3913200"/>
            <a:ext cx="7937640" cy="8604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詳しくは　特別棟２階　生徒会室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5T00:27:59Z</dcterms:created>
  <dc:creator>駒居智志</dc:creator>
  <dc:description/>
  <dc:language>en-US</dc:language>
  <cp:lastModifiedBy>fujii</cp:lastModifiedBy>
  <dcterms:modified xsi:type="dcterms:W3CDTF">2016-08-04T02:35:53Z</dcterms:modified>
  <cp:revision>8</cp:revision>
  <dc:subject/>
  <dc:title>PowerPoint プレゼンテーション</dc:title>
</cp:coreProperties>
</file>