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2FF4-C2FD-426D-9E60-6DECFD239B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8F49-17DF-4A20-8730-47234ABBA0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4C9-5DD2-408B-9D27-6D680415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7F2-E49B-419B-AD93-6219DB58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86E-73BB-4105-8D12-EEA0DAA1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CAE-1DD6-4171-808A-620229FA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77F-C3AE-44EE-8150-9832093C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8B7B-CA35-4B01-AE41-F0E510A3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CD6B-963E-4139-8C95-26EE2609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F31A-DD48-46B1-9793-C659000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4FB7-6E05-4608-BF30-E06E3EC8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EE83-DB4A-4C36-85F6-82CEC8F8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234-B028-4061-949B-FE26AA4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5B9-0CC8-4CE5-B376-CF1C62C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319-B872-4899-AAFC-83C0451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C700-42B5-417B-B12E-F79D08E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2902-6083-4EB2-9BFC-175B75A1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8D8-F458-4797-82FC-38FB2919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B941-D9A5-487F-A492-FB34910C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5D7-9485-4BFF-8E64-B212DD5B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D78-7427-43E6-B317-E912E12D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235-D672-468E-9F7D-36ED03E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D58-E997-4E38-BE7E-43AACD2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3D3-D43E-480B-9025-23288F3E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227-1B71-45D9-8BAC-DF7CFFB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DA2-0FE9-45F3-803E-B92905E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D88-7A8F-49A3-92BE-FD0ED5B83E6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5267-7546-4A7D-B696-32F300C5CFFD}" type="slidenum">
              <a:rPr b="0" lang="ja-JP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438F-A644-4F58-97DC-6F405FFDD6C5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7120"/>
            <a:ext cx="205740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B039-2A3F-4782-930A-7670C74BA664}" type="slidenum">
              <a:rPr b="0" lang="ja-JP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テキスト ボックス 3"/>
          <p:cNvSpPr/>
          <p:nvPr/>
        </p:nvSpPr>
        <p:spPr>
          <a:xfrm>
            <a:off x="295200" y="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３年Ｎ組２番　秋山　冬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スライド番号プレースホルダー 4"/>
          <p:cNvSpPr/>
          <p:nvPr/>
        </p:nvSpPr>
        <p:spPr>
          <a:xfrm>
            <a:off x="6458040" y="4767120"/>
            <a:ext cx="20574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6FA9-6EBA-4F58-B328-AC01DCFBB280}" type="slidenum">
              <a:rPr b="0" lang="ja-JP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メモ 6"/>
          <p:cNvSpPr/>
          <p:nvPr/>
        </p:nvSpPr>
        <p:spPr>
          <a:xfrm>
            <a:off x="312840" y="798480"/>
            <a:ext cx="8505720" cy="1747800"/>
          </a:xfrm>
          <a:prstGeom prst="foldedCorner">
            <a:avLst>
              <a:gd name="adj" fmla="val 1666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文化センタ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セミナー参加者募集のお知ら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フローチャート: データ 7"/>
          <p:cNvSpPr/>
          <p:nvPr/>
        </p:nvSpPr>
        <p:spPr>
          <a:xfrm>
            <a:off x="3081240" y="4282920"/>
            <a:ext cx="5737320" cy="75276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文教市文化センタ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図 9" descr="けん玉.png"/>
          <p:cNvPicPr/>
          <p:nvPr/>
        </p:nvPicPr>
        <p:blipFill>
          <a:blip r:embed="rId1"/>
          <a:stretch/>
        </p:blipFill>
        <p:spPr>
          <a:xfrm>
            <a:off x="4740120" y="2722680"/>
            <a:ext cx="1422720" cy="1303200"/>
          </a:xfrm>
          <a:prstGeom prst="rect">
            <a:avLst/>
          </a:prstGeom>
          <a:ln w="0">
            <a:noFill/>
          </a:ln>
        </p:spPr>
      </p:pic>
      <p:pic>
        <p:nvPicPr>
          <p:cNvPr id="94" name="図 10" descr="タブレット（白）.png"/>
          <p:cNvPicPr/>
          <p:nvPr/>
        </p:nvPicPr>
        <p:blipFill>
          <a:blip r:embed="rId2"/>
          <a:stretch/>
        </p:blipFill>
        <p:spPr>
          <a:xfrm>
            <a:off x="2905200" y="2664000"/>
            <a:ext cx="1154160" cy="14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スライド番号プレースホルダー 3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C13C-31A4-49EF-B4E7-B351881C95F5}" type="slidenum">
              <a:rPr b="0" lang="ja-JP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4"/>
          <p:cNvSpPr/>
          <p:nvPr/>
        </p:nvSpPr>
        <p:spPr>
          <a:xfrm>
            <a:off x="4323600" y="38592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 u="sng">
                <a:solidFill>
                  <a:srgbClr val="000000"/>
                </a:solidFill>
                <a:uFillTx/>
                <a:latin typeface="HGP創英角ﾎﾟｯﾌﾟ体"/>
                <a:ea typeface="HGP創英角ﾎﾟｯﾌﾟ体"/>
              </a:rPr>
              <a:t>さぁ、新しい扉のむこうへ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円形吹き出し 5"/>
          <p:cNvSpPr/>
          <p:nvPr/>
        </p:nvSpPr>
        <p:spPr>
          <a:xfrm>
            <a:off x="3670200" y="1162080"/>
            <a:ext cx="5308560" cy="838080"/>
          </a:xfrm>
          <a:prstGeom prst="wedgeEllipseCallout">
            <a:avLst>
              <a:gd name="adj1" fmla="val -22958"/>
              <a:gd name="adj2" fmla="val 8812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参加者募集中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1880" y="2465280"/>
          <a:ext cx="8220240" cy="2217960"/>
        </p:xfrm>
        <a:graphic>
          <a:graphicData uri="http://schemas.openxmlformats.org/drawingml/2006/table">
            <a:tbl>
              <a:tblPr/>
              <a:tblGrid>
                <a:gridCol w="2143080"/>
                <a:gridCol w="3870360"/>
                <a:gridCol w="2206800"/>
              </a:tblGrid>
              <a:tr h="7398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コース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対象・定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タブレットコー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タブレットを使ってフォトアルバムをつくろう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歳以上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むかし遊びコー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けんだま、五目並べ、</a:t>
                      </a:r>
                      <a:br>
                        <a:rPr sz="2100"/>
                      </a:b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コマ遊びを体験しよう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小学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ja-JP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70c0"/>
                </a:solidFill>
                <a:latin typeface="Calibri Light"/>
              </a:rPr>
              <a:t>詳細・お問い合わせ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開催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タブレットコース　</a:t>
            </a:r>
            <a:r>
              <a:rPr b="0" lang="en-US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11</a:t>
            </a: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23</a:t>
            </a: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むかし遊びコース　</a:t>
            </a:r>
            <a:r>
              <a:rPr b="0" lang="en-US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11</a:t>
            </a: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11</a:t>
            </a: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申し込み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締切日　</a:t>
            </a:r>
            <a:r>
              <a:rPr b="0" lang="en-US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11</a:t>
            </a: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2</a:t>
            </a: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申し込み方法：おはがきでお申し込みくださ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お問い合わせ・申し込み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文教市文化センター企画室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明朝E"/>
                <a:ea typeface="HGP明朝E"/>
              </a:rPr>
              <a:t>北東市西南町２－４－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スライド番号プレースホルダー 3"/>
          <p:cNvSpPr/>
          <p:nvPr/>
        </p:nvSpPr>
        <p:spPr>
          <a:xfrm>
            <a:off x="6458040" y="47671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2CD0-9930-40BB-AC37-8936FB211C70}" type="slidenum">
              <a:rPr b="0" lang="ja-JP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図 5" descr="碁盤.png"/>
          <p:cNvPicPr/>
          <p:nvPr/>
        </p:nvPicPr>
        <p:blipFill>
          <a:blip r:embed="rId1"/>
          <a:stretch/>
        </p:blipFill>
        <p:spPr>
          <a:xfrm>
            <a:off x="5553000" y="1914480"/>
            <a:ext cx="27766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0:27:59Z</dcterms:created>
  <dc:creator>駒居智志</dc:creator>
  <dc:description/>
  <dc:language>en-US</dc:language>
  <cp:lastModifiedBy>fujii</cp:lastModifiedBy>
  <dcterms:modified xsi:type="dcterms:W3CDTF">2016-08-04T02:40:44Z</dcterms:modified>
  <cp:revision>13</cp:revision>
  <dc:subject/>
  <dc:title>PowerPoint プレゼンテーション</dc:title>
</cp:coreProperties>
</file>